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F88-BED1-4B53-8081-CE7668ED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64E-FB10-4465-9690-CD6D97AF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C9A-04D9-4472-AD0A-C70BFEFD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44D-F1F4-462F-8F2E-65BDCD03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5CD-ADF6-40FC-B2DB-D17DFD60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007-C374-428F-8BF7-5C36F584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15D-80D4-4072-AFDA-5C07961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D8B-19EB-4ABB-B913-593A5C4E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A7B-0B47-4923-86AF-A3DBDD83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21F-777F-4215-90B1-9FAEB3DC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8DF-6228-4999-91B6-45FC479C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AC3-BE3E-4227-971E-118523E3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D280-600E-4C3F-9C80-EC451E8C7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alis.com/source/blog/http:/www.talis.com/source/blog/images/Stop.jpeg&amp;imgrefurl=http://www.talis.com/source/blog/2007/02/&amp;usg=__vabcId4jnjZKPSvwvSZs4PqQTRs=&amp;h=346&amp;w=347&amp;sz=44&amp;hl=en&amp;start=1&amp;um=1&amp;tbnid=jzb3D2f8kuCMJM:&amp;tbnh=120&amp;tbnw=120&amp;prev=/images%3Fq%3Dstop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on the 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Connor St. Pier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-30492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all around the 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14400" y="1357200"/>
            <a:ext cx="7361280" cy="5043600"/>
          </a:xfrm>
          <a:prstGeom prst="rect">
            <a:avLst/>
          </a:prstGeom>
          <a:ln w="0">
            <a:noFill/>
          </a:ln>
        </p:spPr>
      </p:pic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the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3152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the golf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371600" y="1714680"/>
            <a:ext cx="6300720" cy="42289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a persons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90720" y="1768320"/>
            <a:ext cx="6781680" cy="443880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ould not find a good place to 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-60948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 at his house his friends were worr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66680" y="1508040"/>
            <a:ext cx="7239240" cy="4892760"/>
          </a:xfrm>
          <a:prstGeom prst="rect">
            <a:avLst/>
          </a:prstGeom>
          <a:ln w="0">
            <a:noFill/>
          </a:ln>
        </p:spPr>
      </p:pic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friends went to look for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fineartamerica.com/images-medium/looking-in-robert-harris.jpg"/>
          <p:cNvPicPr/>
          <p:nvPr/>
        </p:nvPicPr>
        <p:blipFill>
          <a:blip r:embed="rId3"/>
          <a:stretch/>
        </p:blipFill>
        <p:spPr>
          <a:xfrm>
            <a:off x="457200" y="1592280"/>
            <a:ext cx="82296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hey found him he was sleeping under a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2012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-3049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sked him to com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alibri"/>
              </a:rPr>
              <a:t>Plea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1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pologiz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Recorded Sound" descr=""/>
          <p:cNvPicPr/>
          <p:nvPr/>
        </p:nvPicPr>
        <p:blipFill>
          <a:blip r:embed="rId1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69608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on has many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tatic.guim.co.uk/Guardian/world/gallery/2008/jun/03/wildlife/GD7504324@Giant-Pandas-eat-bamb-7071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852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-3049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ame home and he was hap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Recorded Sound" descr=""/>
          <p:cNvPicPr/>
          <p:nvPr/>
        </p:nvPicPr>
        <p:blipFill>
          <a:blip r:embed="rId1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609588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different than his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ifferent land animals"/>
          <p:cNvPicPr/>
          <p:nvPr/>
        </p:nvPicPr>
        <p:blipFill>
          <a:blip r:embed="rId1"/>
          <a:stretch/>
        </p:blipFill>
        <p:spPr>
          <a:xfrm>
            <a:off x="457200" y="1643040"/>
            <a:ext cx="8229600" cy="4519800"/>
          </a:xfrm>
          <a:prstGeom prst="rect">
            <a:avLst/>
          </a:prstGeom>
          <a:ln w="0">
            <a:noFill/>
          </a:ln>
        </p:spPr>
      </p:pic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-45720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had red hair and his friends had black and white h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www.hoglezoo.org/images/animal_finder/RedPanda_1.jpg"/>
          <p:cNvPicPr/>
          <p:nvPr/>
        </p:nvPicPr>
        <p:blipFill>
          <a:blip r:embed="rId1"/>
          <a:stretch/>
        </p:blipFill>
        <p:spPr>
          <a:xfrm>
            <a:off x="457200" y="16002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static.guim.co.uk/Guardian/world/gallery/2008/jun/03/wildlife/GD7504324@Giant-Pandas-eat-bamb-7071.jpg"/>
          <p:cNvPicPr/>
          <p:nvPr/>
        </p:nvPicPr>
        <p:blipFill>
          <a:blip r:embed="rId2"/>
          <a:stretch/>
        </p:blipFill>
        <p:spPr>
          <a:xfrm>
            <a:off x="4818240" y="1600200"/>
            <a:ext cx="386856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3"/>
          <a:stretch/>
        </p:blipFill>
        <p:spPr>
          <a:xfrm>
            <a:off x="-457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made fun of him because of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clipartof.com/images/clipart/xsmall2/14436_grumpy_ginger_cat_with_fish_making_fun_of_him_in_a_fishbowl_stuck_on_his_head.jpg"/>
          <p:cNvPicPr/>
          <p:nvPr/>
        </p:nvPicPr>
        <p:blipFill>
          <a:blip r:embed="rId1"/>
          <a:stretch/>
        </p:blipFill>
        <p:spPr>
          <a:xfrm>
            <a:off x="457200" y="1619280"/>
            <a:ext cx="822960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-30492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made him very s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msp59.photobucket.com/albums/g308/polito_2006/Sad_Face_by_hornsholdmyhalo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nted his friends to s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bn3.google.com/images?q=tbn:jzb3D2f8kuCMJM:http://www.talis.com/source/blog/http:/www.talis.com/source/blog/images/Stop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Recorded Sound" descr=""/>
          <p:cNvPicPr/>
          <p:nvPr/>
        </p:nvPicPr>
        <p:blipFill>
          <a:blip r:embed="rId3"/>
          <a:stretch/>
        </p:blipFill>
        <p:spPr>
          <a:xfrm>
            <a:off x="-3049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would not s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902480"/>
          </a:xfrm>
          <a:prstGeom prst="rect">
            <a:avLst/>
          </a:prstGeom>
          <a:ln w="0">
            <a:noFill/>
          </a:ln>
        </p:spPr>
      </p:pic>
      <p:pic>
        <p:nvPicPr>
          <p:cNvPr id="71" name="Recorded Sound" descr=""/>
          <p:cNvPicPr/>
          <p:nvPr/>
        </p:nvPicPr>
        <p:blipFill>
          <a:blip r:embed="rId2"/>
          <a:stretch/>
        </p:blipFill>
        <p:spPr>
          <a:xfrm>
            <a:off x="-3049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a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295280" y="1862280"/>
            <a:ext cx="6782040" cy="430992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50:01Z</dcterms:created>
  <dc:creator>itsuser</dc:creator>
  <dc:description/>
  <dc:language>en-US</dc:language>
  <cp:lastModifiedBy>itsuser</cp:lastModifiedBy>
  <dcterms:modified xsi:type="dcterms:W3CDTF">2009-04-09T17:15:18Z</dcterms:modified>
  <cp:revision>16</cp:revision>
  <dc:subject/>
  <dc:title>Mason the Panda</dc:title>
</cp:coreProperties>
</file>